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D0C-F1B7-4210-A8CA-4A61E4FC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FCB-D02A-4243-A858-75F4C80B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001-EA04-493A-A6E6-3C60A6C9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B96-8FF0-4BB5-8C4F-537060FD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05F-CC83-4F18-9AE0-F6B926B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1C6-3E12-46C5-BE88-27884F1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02C-6B71-4098-9E10-B457EF7A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602-D3F2-4C57-BE2D-D58A2CB2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AFF-18ED-44D4-9624-4095A5D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C61-A99D-47C5-8302-FDC9E09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533-7CB3-453B-8F9F-1D885E0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D52-271E-4076-969A-385E0B4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16E-358D-41B1-91CF-3E43A524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Текст 2" descr=""/>
          <p:cNvPicPr/>
          <p:nvPr/>
        </p:nvPicPr>
        <p:blipFill>
          <a:blip r:embed="rId2"/>
          <a:srcRect l="0" t="2854" r="0" b="7935"/>
          <a:stretch/>
        </p:blipFill>
        <p:spPr>
          <a:xfrm>
            <a:off x="539640" y="739800"/>
            <a:ext cx="8136000" cy="542592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908000" y="4365720"/>
            <a:ext cx="6193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жевникову - 280 лет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4392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     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2007 год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-  Констан-тин провёл все игры на «бронзовом» для себя чемпионате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2007 год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- получил серебряную медаль Фрица Вальтера как второй среди лучших игроков Германии в своём возрас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i53.tinypic.com/2gt0k77.jpg"/>
          <p:cNvPicPr/>
          <p:nvPr/>
        </p:nvPicPr>
        <p:blipFill>
          <a:blip r:embed="rId2"/>
          <a:stretch/>
        </p:blipFill>
        <p:spPr>
          <a:xfrm>
            <a:off x="5148360" y="1557360"/>
            <a:ext cx="3376440" cy="439272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60" name="WordArt 4"/>
          <p:cNvSpPr txBox="1"/>
          <p:nvPr/>
        </p:nvSpPr>
        <p:spPr>
          <a:xfrm>
            <a:off x="1476360" y="907920"/>
            <a:ext cx="547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Награды нашли геро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3200" spc="-1" strike="noStrike">
                <a:solidFill>
                  <a:srgbClr val="000066"/>
                </a:solidFill>
                <a:latin typeface="Calibri"/>
              </a:rPr>
              <a:t>Решить эту проблему можно разными способами. Например,..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пригласить </a:t>
            </a:r>
            <a:r>
              <a:rPr b="0" i="1" lang="ru-RU" sz="3200" spc="-1" strike="noStrike">
                <a:solidFill>
                  <a:srgbClr val="000066"/>
                </a:solidFill>
                <a:latin typeface="Calibri"/>
              </a:rPr>
              <a:t>футболистов-бойцов с европейским менталитетом, которые будут сражаться при любых обстоятельствах и любом результате. Речь идёт… и о защитнике немецкого «Ганновера-96»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Константине Рауше</a:t>
            </a:r>
            <a:r>
              <a:rPr b="0" i="1" lang="ru-RU" sz="3200" spc="-1" strike="noStrike">
                <a:solidFill>
                  <a:srgbClr val="000066"/>
                </a:solidFill>
                <a:latin typeface="Calibri"/>
              </a:rPr>
              <a:t>, который входит в число главных заводил одного из лидеров бундеслиги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24360" y="177336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Я - русский, пусть и живу в Германии. Пусть мне тут и нравится, пусть тут футбол хороший. Я бы испытал чувство гордос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получив этот выз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313080" cy="50421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64" name="WordArt 4"/>
          <p:cNvSpPr txBox="1"/>
          <p:nvPr/>
        </p:nvSpPr>
        <p:spPr>
          <a:xfrm>
            <a:off x="4427640" y="981000"/>
            <a:ext cx="360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Константин Рауш: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7920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0920" y="1844640"/>
            <a:ext cx="7777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«Регламенте применения Устава ФИФА» говорится, что игрок, уже заигранный за сборную, может поменять одну футбольную ассоциацию на другую, так что, с точки зрения ФИФА, Рауш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имеет право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ыступать за сборную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684360" y="907920"/>
            <a:ext cx="57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Юридический ликбез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1773360"/>
            <a:ext cx="817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борьбу за нашего земляка - левого защитника саксонцев вступил московский «Спартак»: он сможет закрыть проблемную для москвичей позицию левого защитника и освободить Дмитрия Комбарова от оборонительных функций. Кроме того, не заигранный за сборную Германии футболист может усилить и сборную Росс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826920" y="907920"/>
            <a:ext cx="604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"Спартак" заинтересован в Рауше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0643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льзователи могут проголосовать за футбольный клуб, своих спортивных кумиров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media.bundesliga.com/media/images/00_imported_920/rausch_uel_h96_920.jpg"/>
          <p:cNvPicPr/>
          <p:nvPr/>
        </p:nvPicPr>
        <p:blipFill>
          <a:blip r:embed="rId2"/>
          <a:stretch/>
        </p:blipFill>
        <p:spPr>
          <a:xfrm>
            <a:off x="2700360" y="2708280"/>
            <a:ext cx="5759280" cy="3232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72" name="WordArt 4"/>
          <p:cNvSpPr txBox="1"/>
          <p:nvPr/>
        </p:nvSpPr>
        <p:spPr>
          <a:xfrm>
            <a:off x="1476360" y="907920"/>
            <a:ext cx="547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www.foodballtop.ru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092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Цель исследования</a:t>
            </a:r>
            <a:r>
              <a:rPr b="0" lang="ru-RU" sz="25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знакомство с личностью  и спор-тивной карьерой Константина Рауша -  известного немецкого футболиста с кожевниковскими корнями.</a:t>
            </a:r>
            <a:r>
              <a:rPr b="0" lang="ru-RU" sz="25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Задачи</a:t>
            </a:r>
            <a:r>
              <a:rPr b="1" lang="ru-RU" sz="2500" spc="-1" strike="noStrike">
                <a:solidFill>
                  <a:srgbClr val="000066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Calibri"/>
              </a:rPr>
              <a:t>            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1) разыскать информацию о личности немецкого    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футболиста Константина Рауша; 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    2) зафиксировать полученную о нём информацию; 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    3) пополнить копилку школьного музея   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 собранными материалами; 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4) подготовить выступление и слайдовую               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66"/>
                </a:solidFill>
                <a:latin typeface="Times New Roman"/>
              </a:rPr>
              <a:t>    презентацию на краеведческую конферен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11280" y="907920"/>
            <a:ext cx="37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Заключение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Текст 2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499520" cy="39765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Текст 2" descr=""/>
          <p:cNvPicPr/>
          <p:nvPr/>
        </p:nvPicPr>
        <p:blipFill>
          <a:blip r:embed="rId2"/>
          <a:srcRect l="0" t="2854" r="0" b="7935"/>
          <a:stretch/>
        </p:blipFill>
        <p:spPr>
          <a:xfrm>
            <a:off x="539640" y="739800"/>
            <a:ext cx="8136000" cy="542592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1979640" y="3141720"/>
            <a:ext cx="583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жевникову - 280 лет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2124000" y="907920"/>
            <a:ext cx="4896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Использованные источники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55640" y="1844640"/>
            <a:ext cx="79311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азета «Городские новости» г. Красноярск-http://www.gornovosti.ru/tema/stadion/chuzhiye-sredi-svoikh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азета «Спорт день за днём» от 9 сентября 201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азета «Советский спорт» 26  мая  2011, №84(1841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вью с Константином Раушем: http://ru.wn.com/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Спартак заинтересован в Рауше» -http://www.bobsoccer.ru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http://www.vesti.ru/doc.html?id=1072455&amp;cid=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http://www.sovsport.ru/gazeta/article-item/46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ru.wikipedia.org/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http://www.footballtop.ru/search/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www.footballtop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4220640"/>
            <a:ext cx="799308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Автор: Харламов Григорий,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0 класс МБОУ КСОШ №1.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  Руководитель: Понамарева Г.Н.,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читель русского языка и литературы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00000" y="476280"/>
            <a:ext cx="73440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 земляк -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вестный  футболист мир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195640" y="1268280"/>
            <a:ext cx="4824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27416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знакомство с личностью и спортивной карьерой Константина Рауша -  известного немецкого футболиста с кожевниковскими корн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908000" y="1268280"/>
            <a:ext cx="547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Цель исследования -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82440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1) разыскать информацию о личности немецкого футболиста Константина Рауша; </a:t>
            </a:r>
            <a:br>
              <a:rPr sz="2600"/>
            </a:b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2) зафиксировать полученную о нём информацию; </a:t>
            </a:r>
            <a:br>
              <a:rPr sz="2600"/>
            </a:b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3) пополнить копилку школьного музея                собранными материалами; </a:t>
            </a:r>
            <a:br>
              <a:rPr sz="2600"/>
            </a:b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4) подготовить выступление и слайдовую             презентацию на краеведческую конференц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332000" y="1052640"/>
            <a:ext cx="6400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Задачи исследования -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403280" y="1413000"/>
            <a:ext cx="6626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Константин Рауш -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042920" y="2565360"/>
            <a:ext cx="748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немецкий футболист 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с кожевниковскими корнями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raush-580x290"/>
          <p:cNvPicPr/>
          <p:nvPr/>
        </p:nvPicPr>
        <p:blipFill>
          <a:blip r:embed="rId2"/>
          <a:srcRect l="26196" t="0" r="7559" b="6516"/>
          <a:stretch/>
        </p:blipFill>
        <p:spPr>
          <a:xfrm>
            <a:off x="1116000" y="907920"/>
            <a:ext cx="6840720" cy="507852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52" name="WordArt 4"/>
          <p:cNvSpPr txBox="1"/>
          <p:nvPr/>
        </p:nvSpPr>
        <p:spPr>
          <a:xfrm>
            <a:off x="1332000" y="5229360"/>
            <a:ext cx="662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Константин Рауш 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Дедушка о Константин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Костя родился в 1990 году в Кожевниково в семье русских немцев. Раннее детство провёл на улице Некрасова. Яркими остались в душе Константина детские годы. Он вспоминает, как мы с ним рыбачили на Оби, как он катался по реке на лыжа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Когда Константину исполнилось 6 лет, семья переехала жить в Германию. Близких родственников в Кожевниково у нас не осталос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Юношеские команды «Нинхаген» и «Лахендорф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Известный клуб «Ганн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ер-96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итулы клуба «Ганновер -96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мпион Германии — 1938, 19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ладатель Кубка Германии — 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 5 мая 2013 года К. Рауш подписал контракт со спортивным клубом «Штутгарт» до 2016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бщая 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413000"/>
          <a:ext cx="7848000" cy="4608360"/>
        </p:xfrm>
        <a:graphic>
          <a:graphicData uri="http://schemas.openxmlformats.org/drawingml/2006/table">
            <a:tbl>
              <a:tblPr/>
              <a:tblGrid>
                <a:gridCol w="2257560"/>
                <a:gridCol w="559044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лное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онстантин Викторович Рау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озвищ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окка (нем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c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оди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марта 1990 (23 года) Кожевниково, Томская область, СС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жда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ози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Arial"/>
                        </a:rPr>
                        <a:t>Левый защи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28:30Z</dcterms:created>
  <dc:creator>Катенок</dc:creator>
  <dc:description/>
  <dc:language>en-US</dc:language>
  <cp:lastModifiedBy>User</cp:lastModifiedBy>
  <dcterms:modified xsi:type="dcterms:W3CDTF">2013-12-13T05:57:57Z</dcterms:modified>
  <cp:revision>27</cp:revision>
  <dc:subject/>
  <dc:title>Презентация PowerPoint</dc:title>
</cp:coreProperties>
</file>